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4766-8D3B-4190-8456-F590B331180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927A-7F77-45E9-A94A-96D834622B7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6D90-B061-4D7A-813D-94AEE6C8E10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C35E-9789-4CFC-AE6D-9762B50C649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506F-3D23-4AA1-982E-A16E8EA2433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60E3-D647-49B9-B950-D155623AAF5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C552-8561-4BF3-A15B-DC1BF75EE4D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C035-5465-451C-87A2-8A3EBE291E0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7671-438C-4D65-8701-F40BA0D997A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CD47-4736-4176-82D5-BE51359CD44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E881-1BE0-4390-8BA9-01EBDF5ACB7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90D6-8D0E-46B2-8ED9-5430B5931C3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4E41-31D2-4ED9-BAB5-AFB68E7F9DF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F2BD-8654-467B-ADBF-CA0ECE40D41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6C5F-7B10-4D24-8142-260B56734DB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F319-938D-4EE6-9C01-FDD2D68F867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5E2F-E167-4B1B-8C61-323B4BB7486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CD80-AABC-4F01-B9DE-FE3C83D87DF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FA6B-2CAA-4446-B362-CD07A905639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F186-4690-4331-A3A8-536344BCF10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C2E8-284A-4818-A754-46B5A897C08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3F2E-FDCD-4E76-A490-9EE21414CEF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63D5-2B9D-49A9-B4EC-1479B218D14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476D-47B3-4474-B70C-90C25434A00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1E17-BD21-4068-B879-EEA2E810AE4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B014-45E7-4390-804B-B9A4DAD7FD5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BD83-5123-49F8-99DE-F85560E371D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7F45-4743-4E71-AA09-5E201511547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18C1-961C-4828-B9AF-716DB9E3FA9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192B-9B4D-4503-B5A8-A23BD9FB921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4C8E-8679-46DE-842E-3A5F9771754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952B-57C4-4CFF-9C44-8648E6DA0D7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1AE1-A977-4DF0-A1EA-6CBC52E69FC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68ED-A5B2-495C-AB50-E156809A27B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907-3E30-4129-BBF3-D2C39FC19C6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4C0A-AA4B-42EC-8D15-E196CE6E6C1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932E-F8CC-4E07-9149-E61835E4FC9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A4F8-83A1-4848-B5D9-051A57DFC3D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B67B-35C5-41B3-B904-E7DF1E620CA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712E-A3A0-47B5-BAD3-B33889E0BE4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F0E0-331C-4672-A9CD-D76D485C6FF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7155-B664-4788-86FA-2FB619ED6D3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523C-2177-451D-B9A1-7A99ED0E256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362D-391D-4515-8DDF-73D8ECB6251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67F6-A8B0-45F5-9B95-B8DA81519CB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D0E1-6297-4D6E-8CE9-21FE03E63A3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6347-6690-4868-BF3A-268AC8C6025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6A68-90AE-4E58-AEDC-1DAFAB7E8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0687-5AB4-4ECC-8AA7-EB7A6C805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78E9-71EA-4AF3-902A-29189823E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F1C7-D0BA-4957-9A5A-7E30E8339E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50D0-987A-497D-A3EA-87376B453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8811-525C-4FB8-9B78-EDCAFF63F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7CD3-B4BA-4E01-ACFC-CEB1E6D4B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BDAF-C6B2-49D0-B42B-1034163B7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FE86-8376-43A0-9571-83ED8A39E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CF65-DB1E-4F76-A8DD-1CC9CEA83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8BD9-A5B5-43B1-B8A4-D121D4125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1CB6-5E1F-4942-AC10-9579B1C95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333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826524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D486-9811-43BC-98DC-4807A4C732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172040" y="5870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33520" y="3451320"/>
            <a:ext cx="274464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lliam P. Cunningham</a:t>
            </a:r>
            <a:br>
              <a:rPr sz="20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University of Minnesota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y Ann Cunningham</a:t>
            </a:r>
            <a:br>
              <a:rPr sz="24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Vassar College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6521400"/>
            <a:ext cx="9144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54421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See PowerPoint Image Slides for all figures and tables pre-inserted into PowerPoint without notes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1295280"/>
            <a:ext cx="44956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8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cture Outlin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19720" y="905040"/>
            <a:ext cx="4486320" cy="541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447920" cy="719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xygen-Demanding Was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ochemical Oxygen Dem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mount of dissolved oxygen consumed by aquatic microorganisms.  Used as a test for organic waste contam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solved Oxygen Cont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measure of dissolved oxygen in th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 of oxygen-demanding wastes on rivers depend on volume, flow, and temperature of river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xygen Sa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oxygen levels decline downstream from a pollution source as decomposers metabolize waste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xygen Sa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5" descr="_x0012_cun51381_18_07.jpg                                             0030F4B7_x000c_Macintosh HD                   BFE0EB86:"/>
          <p:cNvPicPr/>
          <p:nvPr/>
        </p:nvPicPr>
        <p:blipFill>
          <a:blip r:embed="rId1"/>
          <a:stretch/>
        </p:blipFill>
        <p:spPr>
          <a:xfrm>
            <a:off x="189000" y="1246320"/>
            <a:ext cx="8766000" cy="4367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t Nutrients and Cultural Eutrophic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igotroph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bodies of water that have clear   water and low biological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utroph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bodies of water that are rich in organisms and organic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utrophi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process of increasing nutrient levels and biological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ltural Eutrophi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crease in biological productivity and ecosystem succession caused by huma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al blooms often result.  Decomposing algae rob water of oxy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xic Ti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 tides - dinoflagellate blooms - have become increasingly common in slow-moving and shallow wa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noflagellates are single-celled organisms that swim with 2 whiplike flag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fiesteria piscicid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poisonous dinoflagellate recently recogn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marine zones that are hypoxic due to eutrophication e.g. dead zone at mouth of Mississippi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organic Pollut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metals such as mercury, lead, cadmium, and nickel are highly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persistent and tend to bioaccumulate in food cha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despread toxic metal contaminant in North America is mercury (found in fis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0,000 American children have mercury levels high enough to cause mental deterioration and 1 woman in 6 has levels high enough to harm fe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Metal Contaminants in Wa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drainage and leaching are serious sources of environmental contam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Tennessee study, 43% of streams   and 50% of groundwater contaminated     by metals and acid from mine drai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organic Pollut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metallic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salts that are non-toxic at low concentrations can be mobilized by irrigation and concentrated by evaporation, reaching levels toxic to plants and anim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ching of road salts has had detrimental effect on many eco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senic in India and Banglad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released as by-products of industri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l mining is an especially important source of acid water pol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streams acidified by acid mine drainage are lif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ustion of fossil fuels releases sulfuric and nitric acids that are deposited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sands of lakes are empty of fish and support only a few mosses and fungi due to low 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ganic Chemica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sands of natural and synthetic organic chemicals are used to make pesticides, plastics, pharmaceuticals, pigmen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most important sources of toxic organic chemicals in water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per disposal of industrial and household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off of pesticides from fields, roadsides, golf courses, law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tection Frequency of Organic Contamin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Picture 12" descr="_x0012_cun51381_18_11.jpg                                             0030F4B7_x000c_Macintosh HD                   BFE0EB86:"/>
          <p:cNvPicPr/>
          <p:nvPr/>
        </p:nvPicPr>
        <p:blipFill>
          <a:blip r:embed="rId1"/>
          <a:stretch/>
        </p:blipFill>
        <p:spPr>
          <a:xfrm>
            <a:off x="1792440" y="1238400"/>
            <a:ext cx="5557680" cy="5391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_x0011_cun51381_co18.jpg                                              0030F4C9_x000c_Macintosh HD                   BFE0EB86:"/>
          <p:cNvPicPr/>
          <p:nvPr/>
        </p:nvPicPr>
        <p:blipFill>
          <a:blip r:embed="rId1"/>
          <a:stretch/>
        </p:blipFill>
        <p:spPr>
          <a:xfrm>
            <a:off x="1787400" y="914400"/>
            <a:ext cx="5567400" cy="5398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di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activities have accelerated erosion rates in many ar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-induced erosion and runoff contribute about 25 billion metric tons of sediment and suspended solids to world surface waters each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tructs shipping channels, clogs hydroelectric turbines, smothers fish eggs, blocks out light needed for photosyn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 can also be beneficial e.g. building coastal wetlands and nourishing floodplain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mal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ing or lowering water temperatures from normal levels can adversely affect water quality and aquatic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solubility in water decreases as temperatures incr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es requiring high oxygen levels are adversely affected by warming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s cause warming by discharging heated water from power plants and other indus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mal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cooling processes often use heat-exchangers to extract excess heat, and then discharge heated water back into original source  as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mal plu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rupts natural ec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 off of heat sensitive org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organisms are attracted to warmth, but die when flow of warm water is interrupted by plant shutd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ling ponds or tower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Quality To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as of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ean Water 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1972) established a National Pollution Discharge System which requires a permit for any entity dumping wastes in surface waters and requires disclosure of what is being dum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improvement in water quality, mostly due to sewage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goals have not been fully met; 21,000 water bodies do not meet designated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as of Progr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98, EPA switched regulatory approaches.  Rather than issue standards on a site by site basis, the focus is now on watershed-level monitoring and prot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are required to identify waters not meeting water quality goals and develop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tal maximum daily loa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each pollutant and each listed water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ing example: Lake 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aining Probl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greatest impediments to achieving national goals in water quality are sediment, nutrients, and pathogens, especially from non-point dis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three-quarters of water pollution in the U.S. comes from soil erosion, air pollution fallout, and agricultural and urban runo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tle in feedlots produce 144 million tons of manure and pet waste does not go through sewage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Countries Also Have 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wage treatment in wealthier countries of Europe generally equals or surpasses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ussia, only about half of the tap water supply is safe to drink and in China 70% of surface waters are unfit for consum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America, Africa and Asia have poor water quality due to poverty, population growth and shift of polluting industries from countries where laws are strict to where they are l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Yamuna River and 2/3 of the other surface waters in India are so polluted that it is dangerous to even have contact with the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ndwater Is Hard To Monitor And Cle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half the U.S. population, and 95% of rural residents, depend on underground aquifers for drinking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cades, groundwater was assumed impervious to pollution and was considered the gold standard for water quality, but that is no longer tr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yl tertiary butyl ether (MTBE). a suspected carcinogen found in gasoline, now contaminates ground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ndwater and Drinking Wa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estimates 4.5 trillion liters (1.2 trillion gal) of contaminated water seep into the groundwater in the U.S.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s from septic tanks, cesspools, landfills, waste disposal sit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gal of gasoline can make 1 million gal of water undrink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gricultural areas, fertilizers and pesticides commonly contaminate aquifers and w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nts remain for thousands of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nd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" name="Picture 5" descr="_x0012_cun51381_18_17.jpg                                             0030F4B7_x000c_Macintosh HD                   BFE0EB86:"/>
          <p:cNvPicPr/>
          <p:nvPr/>
        </p:nvPicPr>
        <p:blipFill>
          <a:blip r:embed="rId1"/>
          <a:stretch/>
        </p:blipFill>
        <p:spPr>
          <a:xfrm>
            <a:off x="184320" y="1309680"/>
            <a:ext cx="8775360" cy="4240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and Effects of Wate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vs. Non-Point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Quality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nd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Pollut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icipal Sewage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 Water Act (197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oundwater and Drinking Wa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 to groundwater, contaminated surface waters can make drinking water unsa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8 EPA data show that 30,000 people in the U.S.  get water from community systems that don’t meet all health-based drinking water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stimated 1.5 million Americans fall ill from fecal contamination ann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ryptosporidiu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waukee - 400,000 sick, 100 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rinking Water Systems with EPA Viol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7" descr="_x0012_cun51381_18_18.jpg                                             0030F4B7_x000c_Macintosh HD                   BFE0EB86:"/>
          <p:cNvPicPr/>
          <p:nvPr/>
        </p:nvPicPr>
        <p:blipFill>
          <a:blip r:embed="rId1"/>
          <a:stretch/>
        </p:blipFill>
        <p:spPr>
          <a:xfrm>
            <a:off x="1558800" y="1370160"/>
            <a:ext cx="6024600" cy="5030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Few Controls On Ocean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stal zone often overwhelmed by contamination from heavy metals, toxic chemicals, oil, pathogens, sediment.  These zones would otherwise be among most produ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arded plastics are non-biodegradable, last for years, and are carried by currents around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ensnare bird and mammals, choking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cean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Picture 6" descr="_x0012_cun51381_18_20.jpg                                             0030F4C9_x000c_Macintosh HD                   BFE0EB86:"/>
          <p:cNvPicPr/>
          <p:nvPr/>
        </p:nvPicPr>
        <p:blipFill>
          <a:blip r:embed="rId1"/>
          <a:stretch/>
        </p:blipFill>
        <p:spPr>
          <a:xfrm>
            <a:off x="1139760" y="838080"/>
            <a:ext cx="6864480" cy="5818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il Pollutio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coastlines in the world remain uncontaminated by oil pol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to 6 million tons of oil are released into ocean each year, about half of which is due to marine tran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oil spills from transport, military conflict,   oil drilling in risky locations such as the North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plans to drill in seismically active California and Alaskan co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urce Reduction Can Reduce 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est and most effective way to reduce pollution is avoid producing it or releasing it into the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show as much as 90% less road salt can be used without significantly affecting saf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fully dispose of 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ver metals from industrial waste and   sell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nd Management Controls Nonpoint Sour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main causes of nonpoint pol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 run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dispo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, soil conservation methods also help protect water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urban areas, reducing materials carried away by storm runoff is help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s Can Remind People Where Wastes G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833400"/>
            <a:ext cx="7086600" cy="5567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uman Waste Dispos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500 pathogenic bacteria, viruses, and parasites can travel from human or animal excrement through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ur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areas, outdoor urination and defecation is the n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opulation densities are low, natural processes can quickly eliminate waste, but in cities this is unwork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ignificant proportion of dust in Mexico City is actually dried fe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uman Waste Dispos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countries, especially in Asia, “night soil” (human and animal waste) is spread on fields as fertilizer, but it can cause dis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about 70 years ago, most rural areas in the U.S. depended on outhouses, which contaminated drinking water supp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septic fields which clean water by aeration and remove excess nutrients through bacterial action.  Solids are pumped out and taken to a treatment pl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physical, biological, or chemical change in water quality that adversely affects living organisms or makes water unsuitable for desired uses can be considered pol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 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discharge pollution from specific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ies, power plants, drain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Point 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cattered or diffuse, having no specific location of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fields, feed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tic Tan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960" y="1305000"/>
            <a:ext cx="8259840" cy="4748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nicipal Sewage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mary 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physical separation of large solids from the waste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ary 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biological degradation of dissolved orga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luent from primary treatment transferred into trickling bed, or aeration t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luent from secondary treatment is usually disinfected (chlorinated) before release into nearby water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nicipal Sewage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rtiary 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removal of plant nutrients (nitrates and phosphates) from secondary efflu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s which bind or natural wet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U.S. cities, sanitary sewers are connected to storm sew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storms can overload the system, causing by-pass dumping of raw sewage and toxic runoff directly into watercour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_x0012_cun51381_18_23.jpg                                             0030F4B7_x000c_Macintosh HD                   BFE0EB86:"/>
          <p:cNvPicPr/>
          <p:nvPr/>
        </p:nvPicPr>
        <p:blipFill>
          <a:blip r:embed="rId1"/>
          <a:stretch/>
        </p:blipFill>
        <p:spPr>
          <a:xfrm>
            <a:off x="193680" y="208080"/>
            <a:ext cx="875664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w-Cost Waste Treat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ffluent Sew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 between traditional septic tank and full sew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mp liquid tank contents to central treatment plant rather than use drain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t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luent flows through wetlands where it is filtered and cleaned by aquatic plants and microscopic organis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Remedi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ment methods confine liquid wastes in place, or cap surface with impermeable layer to divert water away from a site that is causing pol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ction techniques are used to pump out polluted water for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idation, reduction, neutralization, or precipitation of contamin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organisms can also be used to break down pollution (called bioremedia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logical Enginee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 Arks International designs vessels that combine living organisms with containment.  In a machine, water flows through a series of containers, each with a distinctive biological community.  Waste from one vessel becomes the food for the next vess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effluent is technically drinkable, but more often used for irrigation or flushing toil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Legis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.S. Clean Water Act (197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was to return all U.S. surface waters to “fishable and swimmable”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oint sources, discharge permits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st practicable control technolog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re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goals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st available, economically achievable techn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for zero discharge of 126 priority toxic pollu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ean Water Act (1972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as of Con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ining or filling of wetlands is reg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 and developers consider this the taking of private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funded Man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or local governments must spend monies to comply with regulations but are not repaid by Cong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runoff is largest source of surface water degradation, but regulation remains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Important Water Legis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Drinking Water Act regulates water quality in municipal and commercia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RC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1980) created Superfund program to  clean up toxic waste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ed in 1884 by SARA, which provides immediate response in emergency situations and permanent remedies for abandoned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 point sources continu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mospheric Depos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contaminants carried by air currents and precipitated into watersheds or directly onto surface waters    as rain, snow or dry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d 600,000 kg of the herbicide atrazine in the Great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thought to have been deposited from the atmo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nts can also evaporate from l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ean Water Legis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28040" cy="3929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ypes and Effects of Water Pol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ectious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source of waterborne pathogens is improperly treated human w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waste from feedlots and fields is also important source of pathog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least 2.5 billion people in less developed countries lack adequate sanitation, and about half of these lack access to clean drinking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ectious Ag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veloped countries, sewage treatment plants and pollution-control devices have greatly reduced pathog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liform bact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testinal bacteria; used to detect water cont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ing water generally disinfected via chlor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26" descr="_x0012_cun51381_18_06.jpg                                             0030F4C9_x000c_Macintosh HD                   BFE0EB86:"/>
          <p:cNvPicPr/>
          <p:nvPr/>
        </p:nvPicPr>
        <p:blipFill>
          <a:blip r:embed="rId1"/>
          <a:stretch/>
        </p:blipFill>
        <p:spPr>
          <a:xfrm>
            <a:off x="870120" y="293760"/>
            <a:ext cx="7403760" cy="62704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xygen-Demanding Was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ith an oxygen content &gt; 6 ppm will support desirable aquatic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with &lt; 2 ppm oxygen will support mainly detritivores and decompo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is added to water by diffusion from wind and waves, and by photosynthesis from green plants, algae, and cyanobacte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is removed from water by respiration and oxygen-consuming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22:44:40Z</dcterms:created>
  <dc:creator>CCSN</dc:creator>
  <dc:description/>
  <dc:language>en-US</dc:language>
  <cp:lastModifiedBy>yeswini.d</cp:lastModifiedBy>
  <dcterms:modified xsi:type="dcterms:W3CDTF">2009-08-24T05:44:33Z</dcterms:modified>
  <cp:revision>117</cp:revision>
  <dc:subject/>
  <dc:title>Understanding Our Environment</dc:title>
</cp:coreProperties>
</file>